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E4A4-6547-4483-A6C8-76609CDFE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54CF-6C54-46E0-97E7-603958616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9 cripple children on roof of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D7CE-46E0-4FB0-BAFF-3D7DDE4F4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F81-4510-486C-90A5-F3D57690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FDD-1858-4278-9A8D-E0B6DFE5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2D8-95EB-4345-B4AA-5F412900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8C8-2F39-4666-8B23-E23694DC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905-CC46-4461-83C8-405537B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C7-AD9B-40D2-8499-6034171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47B-9D87-4783-B03F-323C643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ACC-E47B-4F3E-89FD-41670E6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F23-1C3C-47A7-81E5-F04C930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4BC-899F-4CA6-8370-A82AF529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AF9-C9CA-4888-98BB-0CA0A16B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B48D-1C21-4442-9B12-AEA80C7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089-51F5-41D1-9DA9-85233B45C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ake a Look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What do you se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5" descr="zoo.jpg"/>
          <p:cNvPicPr/>
          <p:nvPr/>
        </p:nvPicPr>
        <p:blipFill>
          <a:blip r:embed="rId1"/>
          <a:stretch/>
        </p:blipFill>
        <p:spPr>
          <a:xfrm>
            <a:off x="0" y="0"/>
            <a:ext cx="8991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desks.jpg"/>
          <p:cNvPicPr/>
          <p:nvPr/>
        </p:nvPicPr>
        <p:blipFill>
          <a:blip r:embed="rId1"/>
          <a:stretch/>
        </p:blipFill>
        <p:spPr>
          <a:xfrm>
            <a:off x="152280" y="0"/>
            <a:ext cx="87710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xercise.jpg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cripple.jpg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59" name="Notched Right Arrow 4"/>
          <p:cNvSpPr/>
          <p:nvPr/>
        </p:nvSpPr>
        <p:spPr>
          <a:xfrm>
            <a:off x="380880" y="457200"/>
            <a:ext cx="8458200" cy="228600"/>
          </a:xfrm>
          <a:custGeom>
            <a:avLst/>
            <a:gdLst>
              <a:gd name="textAreaLeft" fmla="*/ 56880 w 8458200"/>
              <a:gd name="textAreaRight" fmla="*/ 8401320 w 8458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308" y="5400"/>
                </a:lnTo>
                <a:lnTo>
                  <a:pt x="21308" y="0"/>
                </a:lnTo>
                <a:lnTo>
                  <a:pt x="21600" y="10800"/>
                </a:lnTo>
                <a:lnTo>
                  <a:pt x="21308" y="21600"/>
                </a:lnTo>
                <a:lnTo>
                  <a:pt x="21308" y="16200"/>
                </a:lnTo>
                <a:lnTo>
                  <a:pt x="0" y="16200"/>
                </a:lnTo>
                <a:lnTo>
                  <a:pt x="1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1:35:51Z</dcterms:created>
  <dc:creator> </dc:creator>
  <dc:description/>
  <dc:language>en-US</dc:language>
  <cp:lastModifiedBy> </cp:lastModifiedBy>
  <dcterms:modified xsi:type="dcterms:W3CDTF">2012-03-05T02:19:49Z</dcterms:modified>
  <cp:revision>5</cp:revision>
  <dc:subject/>
  <dc:title>Take a Look What do you see?</dc:title>
</cp:coreProperties>
</file>